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7C41-9071-46F8-BEA7-4EEB30E2D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A25B-344E-4DFE-AAD6-CDB9AA9F6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06D9-348F-4952-9906-3AB0E836E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DBB8-328D-45BC-A4EB-B71EC2A40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8483-5741-4A78-BA7D-87CC7DFCE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3F41-0B3D-4E5E-9EC4-7D908AA0C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A340-E93A-4D6E-8092-194DC257B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24BF-39E5-46EF-9456-AE6DF6B65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8DCF-7AEE-4236-9106-2142ED93C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FCE5-D167-4E4D-94E0-93CC998E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020D-545E-4942-8E9D-E6C7CDB8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20AE-FC16-4878-8656-23A59B13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8403C-0EC5-4088-9227-A4048638D2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 успешно пройти психологические тесты при приеме на работу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ШколаЖизни.р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Познавательный журна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2920" y="285840"/>
            <a:ext cx="2190600" cy="1857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6929280" y="285840"/>
            <a:ext cx="1805040" cy="1871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3"/>
          <a:stretch/>
        </p:blipFill>
        <p:spPr>
          <a:xfrm>
            <a:off x="6715080" y="4929120"/>
            <a:ext cx="2214720" cy="1662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4"/>
          <a:stretch/>
        </p:blipFill>
        <p:spPr>
          <a:xfrm>
            <a:off x="285840" y="4929120"/>
            <a:ext cx="19764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ажно также и что нарисуют первым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857680" y="1600200"/>
            <a:ext cx="582912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ом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потребность в безопасности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ловека – зацикленность на себе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ерево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потребность в жизненно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нергии. К тому же, дерево – метафор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ремлений (дуб – уверенность в себе, ива – наоборот – неуверенность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человек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метафора восприятия себя другим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юдьм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ом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метафора восприятия себя самим человеком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замок – самолюбование, покосившаяся хижина –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изкая самооценка, недовольство собой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214200" y="1571760"/>
            <a:ext cx="2309760" cy="41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люч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071800" y="1142640"/>
            <a:ext cx="69292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аш рисунок должен быть реалистичен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 пропорционален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Чтобы продемонстрировать свою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оммуникабельность и готовность работать в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оллективе, не забудьте о таких деталях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*дорога к крыльцу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контактность)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*корни у дерева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связь с коллективом)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*окна и двери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доброжелательность и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ткрытость)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*солнце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(жизнерадостность)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*плодовое дерево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практичность)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*домашнее животное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забота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142920" y="285840"/>
            <a:ext cx="184788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сихологический тест № 3.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Рассказ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2560" y="1600200"/>
            <a:ext cx="635796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ам показывают картинки 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ображением людей в различны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жизненных ситуациях и просят и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комментировать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* что происходит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* о чем думает человек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* почему он так поступае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6643800" y="857160"/>
            <a:ext cx="22860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это значит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34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сходя из толкования картинок, можно определить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едущие жизненные сценарии человека, иным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ловами –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«у кого что болит – тот о том и говорит»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читается, что человек проектирует ситуации на картинках н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вою жизнь и выдает свои страхи, желания, взгляд на мир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Так, например, если на картинке изображен плачущий ил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меющийся человек, то ожидается, что, комментируя её, вы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сскажете о своих мотивах радости или груст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6643800" y="4643280"/>
            <a:ext cx="19047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люч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571920" y="2071800"/>
            <a:ext cx="511488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еобходим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нтролировать сво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тветы и истолковыва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артинки в максимальн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зитивном ключ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500040" y="2143080"/>
            <a:ext cx="307188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сихологический тест № 4.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лякс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42920" y="1600200"/>
            <a:ext cx="878688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ам показывают картинки с изображение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сформенной клякс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как правило, симметричной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просят рассказать, что вы видит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7429680" y="492912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Что это значит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Этот психологический тест чем-то похож на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едыдущий, он так же выявляет ваше истинное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тношение к миру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зитивное трактование картинок (например –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бщение людей) говорит о вас как о деятельном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бщительном, позитивном человеке, негативное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(в кляксе вы разглядели монстра, опасное животное)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говорит о том, что у вас много необоснованных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трахов или же глубокий стресс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люч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314280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191880" indent="-191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картинка у вас ассоциируется с чем-т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вно негативным, прокомментируйте её 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йтральном ключе. Например, не говорите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Вижу людей, которые ссорятся», а скажите: «Люди эмоционально общаются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428760" y="142920"/>
            <a:ext cx="2500200" cy="2286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"/>
          <p:cNvPicPr/>
          <p:nvPr/>
        </p:nvPicPr>
        <p:blipFill>
          <a:blip r:embed="rId2"/>
          <a:stretch/>
        </p:blipFill>
        <p:spPr>
          <a:xfrm>
            <a:off x="0" y="9358200"/>
            <a:ext cx="12049200" cy="5100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"/>
          <p:cNvPicPr/>
          <p:nvPr/>
        </p:nvPicPr>
        <p:blipFill>
          <a:blip r:embed="rId3"/>
          <a:stretch/>
        </p:blipFill>
        <p:spPr>
          <a:xfrm>
            <a:off x="6500880" y="142920"/>
            <a:ext cx="20001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сихологический тест № 5.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IQ тест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999880" y="1600200"/>
            <a:ext cx="592956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ам предлагают з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9680" indent="-229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пределенный промежуток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9680" indent="-229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ремен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9680" indent="-229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от 30 мин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9680" indent="-229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ветить н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9680" indent="-229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сколько вопросо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9680" indent="-229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от 40 до 200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9680" indent="-229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ной направленности – от математических задачек до логических головоломо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9680" indent="-229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571680" y="2000160"/>
            <a:ext cx="264312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это значит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14200" y="1285560"/>
            <a:ext cx="87868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анные психологические тесты предназначены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ля определения так называемого  Коэффициента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нтеллекта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Хоть их действенность все чаще вызывает сомнения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(если у человека низкие показатели – это не обязательно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значит, что он тупой, возможно, у него нестандартное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ышление или он просто банально невнимателен), тесты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уже много лет сохраняют и увеличивают свою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пулярность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аиболее распространены IQ тесты Айзенка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357360" y="857160"/>
            <a:ext cx="550044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сихологические тесты при приёме н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боту в США и Европе очен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пространены и используютс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сколько десятков ле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нашей стране  - это довольно нова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тодика, однако её поклоннико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 каждым годом все больше и больше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едь она позволяет быстро 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ъективно выявить личностные и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фессиональные качества кандидат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85840" y="857160"/>
            <a:ext cx="29289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люч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213920"/>
            <a:ext cx="540072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удьте максимально внимательны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чень много вопросов с подвохо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сли время истекает, а вопросов ещ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ного – не оставляйте их без решения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ставьте ответы наугад, что-то наверняк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гадает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кануне тестирования при приеме н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боту пройдите несколько психологически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естов в Интернете, это поможет выявит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нципы решен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 статистике каждое последующе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хождение психологического теста повышае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зультативность на 5-7%, только н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влекайтесь, а то вдруг окажитесь слишком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мным для предлагаемой долж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5857920" y="1071720"/>
            <a:ext cx="27622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перь вы видите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599840"/>
            <a:ext cx="822960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пройти психологические тесты при приеме на работу не так уж сложно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дь у вас есть «ключи», которые откроют путь к новым карьерным достижениям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3214800" y="44290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500200" y="1214280"/>
            <a:ext cx="64296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ногие компании и специалист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подбору персонала, пожалуй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же преувеличивают значимос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зультатов тестирования, поэтому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бы такое испытание не стал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пятствием к получению работ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ашей мечты, необходимо знать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с блеском его преодолет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285840" y="4357800"/>
            <a:ext cx="18478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сихологический тест № 1. Любимый цвет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5757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ам предлагается расположить 8 карточе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зных цветов в порядке, начиная от самого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иятного до самого неприятного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то это значит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анный тест направлен на определение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эмоционального состояния человек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аждая карточка символизирует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требности человек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6215040" y="2214720"/>
            <a:ext cx="271476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так, расположите 8 карточек разных цветов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порядке, начиная от самого приятного до самого неприятного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3500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marL="154080" indent="-154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54080" indent="-154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54080" indent="-154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расный, жёлтый, зелёный, синий, серый, фиолетовый, коричневый, чёр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1"/>
          <a:stretch/>
        </p:blipFill>
        <p:spPr>
          <a:xfrm>
            <a:off x="2214720" y="2714760"/>
            <a:ext cx="4429080" cy="19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 теперь посмотрите, как расценивают эти цвета будущие работодател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643040" y="1428840"/>
            <a:ext cx="721512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расный цвет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потребность в действии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желтый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потребность в устремлении к цели, надежда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елены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потребность самоутверждатьс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иний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потребность в привязанности, постоянству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ерый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усталость, стремление к покою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иолетовы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уход от реальност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ричневы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потребность в защит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черны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депресси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сположение карточек значит следующее: первые две – стремления человека, 3 и 4 – истинное положение дел, 5 и 6 – равнодушное отношение, 7 и 8 – антипатия, подавлени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214200" y="1143000"/>
            <a:ext cx="12859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люч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13880" y="1600200"/>
            <a:ext cx="8286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первой четверке обязательно должны быть красный, желтый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иний, зеленый – в каком именно порядке, не так существенно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иболее предпочтительный вариант расположения карточек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торый рисует портрет целеустремленного, деятельного человека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Красный – желтый – зеленый – синий – фиолетовый –коричневый – серый - черный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ам могут предложить пройти этот психологический тест дважд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 второй раз немного поменяйте карточки местами, но не значительно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 то вас сочтут неуравновешенной личность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785880" y="214200"/>
            <a:ext cx="184788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сихологический тест № 2.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Урок рисован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643200" y="3000240"/>
            <a:ext cx="504360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ам предлагают нарисовать дом, дерево, челове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714240" y="2643120"/>
            <a:ext cx="285768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Что это значит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14200" y="1600200"/>
            <a:ext cx="871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читается, что так человек может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одемонстрировать свое самовосприятие в мире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данном психологическом тесте значение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меет каждая деталь: расположение рисунка на листе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(расположенный по центру, пропорциональный рисунок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говорит об уверенности в себе), единая композиция из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сех объектов свидетельствует о целостности личности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акой вид объекта будет отображен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2T13:32:02Z</dcterms:created>
  <dc:creator>User</dc:creator>
  <dc:description/>
  <dc:language>en-US</dc:language>
  <cp:lastModifiedBy>User</cp:lastModifiedBy>
  <dcterms:modified xsi:type="dcterms:W3CDTF">2012-02-13T15:12:54Z</dcterms:modified>
  <cp:revision>10</cp:revision>
  <dc:subject/>
  <dc:title>Как успешно пройти психологические тесты при приеме на работу? </dc:title>
</cp:coreProperties>
</file>